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11.png" ContentType="image/png"/>
  <Override PartName="/ppt/media/image30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3.png" ContentType="image/png"/>
  <Override PartName="/ppt/media/image24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19B-A5F9-49D9-AC4F-D1F1A735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092-3EC5-4F63-B80B-32F7CB3A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2A8-F082-45CF-A9B9-F12994CA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7AF-37EE-420B-AF1E-1D5FE39D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AF9-CA74-447C-903D-3DF8B246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B88-046E-43C3-B7EB-ECBE5DA6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30D-CF0D-4212-BE4E-CA82649B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520-1C8A-4808-92DD-3F646347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633-66D0-437D-AED0-D0623D41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BAD-2CE0-44C0-9AC6-C52D5EB9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E97-F1E7-49F2-9132-FC887ABF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424-465D-4903-9666-1C1CD45B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9D9C-1CDD-4CAF-956E-D00D490922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4.png"/><Relationship Id="rId15" Type="http://schemas.openxmlformats.org/officeDocument/2006/relationships/slide" Target="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2"/>
          <a:stretch/>
        </p:blipFill>
        <p:spPr>
          <a:xfrm>
            <a:off x="1609560" y="1341360"/>
            <a:ext cx="613260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419640" y="3213000"/>
            <a:ext cx="208908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ИГ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419640" y="4076640"/>
            <a:ext cx="20890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755640" y="549360"/>
            <a:ext cx="7416720" cy="1557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84 : 12 = 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Users\Надя\Desktop\Эпос.Школа\4 класс\Moodle\Игра\0 (406).png"/>
          <p:cNvPicPr/>
          <p:nvPr/>
        </p:nvPicPr>
        <p:blipFill>
          <a:blip r:embed="rId2"/>
          <a:stretch/>
        </p:blipFill>
        <p:spPr>
          <a:xfrm>
            <a:off x="1187280" y="2997360"/>
            <a:ext cx="3032280" cy="3398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Надя\Desktop\Эпос.Школа\4 класс\Moodle\Игра\89-899229_blue-flowers-clipart-png.png"/>
          <p:cNvPicPr/>
          <p:nvPr/>
        </p:nvPicPr>
        <p:blipFill>
          <a:blip r:embed="rId3"/>
          <a:stretch/>
        </p:blipFill>
        <p:spPr>
          <a:xfrm>
            <a:off x="5227560" y="3429000"/>
            <a:ext cx="2944800" cy="2817720"/>
          </a:xfrm>
          <a:prstGeom prst="rect">
            <a:avLst/>
          </a:prstGeom>
          <a:ln w="0">
            <a:noFill/>
          </a:ln>
        </p:spPr>
      </p:pic>
      <p:sp>
        <p:nvSpPr>
          <p:cNvPr id="102" name="Овал 2"/>
          <p:cNvSpPr/>
          <p:nvPr/>
        </p:nvSpPr>
        <p:spPr>
          <a:xfrm>
            <a:off x="1187280" y="5392800"/>
            <a:ext cx="11527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6"/>
          <p:cNvSpPr/>
          <p:nvPr/>
        </p:nvSpPr>
        <p:spPr>
          <a:xfrm>
            <a:off x="5076720" y="5392800"/>
            <a:ext cx="11509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416720" y="626760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755640" y="549360"/>
            <a:ext cx="7416720" cy="1557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70 : 14 = 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Users\Надя\Desktop\Эпос.Школа\4 класс\Moodle\Игра\0 (406).png"/>
          <p:cNvPicPr/>
          <p:nvPr/>
        </p:nvPicPr>
        <p:blipFill>
          <a:blip r:embed="rId2"/>
          <a:stretch/>
        </p:blipFill>
        <p:spPr>
          <a:xfrm>
            <a:off x="1187280" y="2997360"/>
            <a:ext cx="3032280" cy="339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Надя\Desktop\Эпос.Школа\4 класс\Moodle\Игра\89-899229_blue-flowers-clipart-png.png"/>
          <p:cNvPicPr/>
          <p:nvPr/>
        </p:nvPicPr>
        <p:blipFill>
          <a:blip r:embed="rId3"/>
          <a:stretch/>
        </p:blipFill>
        <p:spPr>
          <a:xfrm>
            <a:off x="5227560" y="3429000"/>
            <a:ext cx="2944800" cy="281772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2"/>
          <p:cNvSpPr/>
          <p:nvPr/>
        </p:nvSpPr>
        <p:spPr>
          <a:xfrm>
            <a:off x="1187280" y="5392800"/>
            <a:ext cx="11527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5076720" y="5392800"/>
            <a:ext cx="11509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7416720" y="626760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755640" y="549360"/>
            <a:ext cx="7416720" cy="1557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88 : 11 = 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C:\Users\Надя\Desktop\Эпос.Школа\4 класс\Moodle\Игра\0 (406).png"/>
          <p:cNvPicPr/>
          <p:nvPr/>
        </p:nvPicPr>
        <p:blipFill>
          <a:blip r:embed="rId2"/>
          <a:stretch/>
        </p:blipFill>
        <p:spPr>
          <a:xfrm>
            <a:off x="1187280" y="2997360"/>
            <a:ext cx="3032280" cy="3398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Надя\Desktop\Эпос.Школа\4 класс\Moodle\Игра\89-899229_blue-flowers-clipart-png.png"/>
          <p:cNvPicPr/>
          <p:nvPr/>
        </p:nvPicPr>
        <p:blipFill>
          <a:blip r:embed="rId3"/>
          <a:stretch/>
        </p:blipFill>
        <p:spPr>
          <a:xfrm>
            <a:off x="5227560" y="3429000"/>
            <a:ext cx="2944800" cy="2817720"/>
          </a:xfrm>
          <a:prstGeom prst="rect">
            <a:avLst/>
          </a:prstGeom>
          <a:ln w="0">
            <a:noFill/>
          </a:ln>
        </p:spPr>
      </p:pic>
      <p:sp>
        <p:nvSpPr>
          <p:cNvPr id="114" name="Овал 2"/>
          <p:cNvSpPr/>
          <p:nvPr/>
        </p:nvSpPr>
        <p:spPr>
          <a:xfrm>
            <a:off x="1187280" y="5392800"/>
            <a:ext cx="11527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6"/>
          <p:cNvSpPr/>
          <p:nvPr/>
        </p:nvSpPr>
        <p:spPr>
          <a:xfrm>
            <a:off x="5076720" y="5392800"/>
            <a:ext cx="11509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416720" y="626760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755640" y="549360"/>
            <a:ext cx="7416720" cy="1557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72 : 36 = 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Users\Надя\Desktop\Эпос.Школа\4 класс\Moodle\Игра\0 (406).png"/>
          <p:cNvPicPr/>
          <p:nvPr/>
        </p:nvPicPr>
        <p:blipFill>
          <a:blip r:embed="rId2"/>
          <a:stretch/>
        </p:blipFill>
        <p:spPr>
          <a:xfrm>
            <a:off x="1187280" y="2997360"/>
            <a:ext cx="3032280" cy="339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Надя\Desktop\Эпос.Школа\4 класс\Moodle\Игра\89-899229_blue-flowers-clipart-png.png"/>
          <p:cNvPicPr/>
          <p:nvPr/>
        </p:nvPicPr>
        <p:blipFill>
          <a:blip r:embed="rId3"/>
          <a:stretch/>
        </p:blipFill>
        <p:spPr>
          <a:xfrm>
            <a:off x="5227560" y="3429000"/>
            <a:ext cx="2944800" cy="2817720"/>
          </a:xfrm>
          <a:prstGeom prst="rect">
            <a:avLst/>
          </a:prstGeom>
          <a:ln w="0">
            <a:noFill/>
          </a:ln>
        </p:spPr>
      </p:pic>
      <p:sp>
        <p:nvSpPr>
          <p:cNvPr id="120" name="Овал 2"/>
          <p:cNvSpPr/>
          <p:nvPr/>
        </p:nvSpPr>
        <p:spPr>
          <a:xfrm>
            <a:off x="1187280" y="5392800"/>
            <a:ext cx="11527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6"/>
          <p:cNvSpPr/>
          <p:nvPr/>
        </p:nvSpPr>
        <p:spPr>
          <a:xfrm>
            <a:off x="5076720" y="5392800"/>
            <a:ext cx="11509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7416720" y="626760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s://www.pinclipart.com/picdir/big/54-541599_wonderland-alice-clipart-cliparts-by-digitalclipartpapers-.png"/>
          <p:cNvPicPr/>
          <p:nvPr/>
        </p:nvPicPr>
        <p:blipFill>
          <a:blip r:embed="rId2"/>
          <a:stretch/>
        </p:blipFill>
        <p:spPr>
          <a:xfrm>
            <a:off x="324000" y="1268280"/>
            <a:ext cx="3960720" cy="53276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4716360" y="836640"/>
            <a:ext cx="38163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ДОЛЖИТЬ ИГ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5850000" y="1798560"/>
            <a:ext cx="154944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2" descr=""/>
          <p:cNvPicPr/>
          <p:nvPr/>
        </p:nvPicPr>
        <p:blipFill>
          <a:blip r:embed="rId2"/>
          <a:stretch/>
        </p:blipFill>
        <p:spPr>
          <a:xfrm>
            <a:off x="108000" y="2276640"/>
            <a:ext cx="3154320" cy="424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3"/>
          <p:cNvSpPr/>
          <p:nvPr/>
        </p:nvSpPr>
        <p:spPr>
          <a:xfrm>
            <a:off x="2724840" y="3933720"/>
            <a:ext cx="570060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728 : 27=…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7380360" y="6237360"/>
            <a:ext cx="151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1835280" y="473040"/>
            <a:ext cx="720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564000" y="944640"/>
            <a:ext cx="720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7093080" y="2217600"/>
            <a:ext cx="7556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5424480" y="1654200"/>
            <a:ext cx="7318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5424480" y="260280"/>
            <a:ext cx="3179880" cy="5205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решени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1584360" y="1446120"/>
            <a:ext cx="122400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ец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3348000" y="1976400"/>
            <a:ext cx="11397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6900840" y="3191040"/>
            <a:ext cx="11397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5219640" y="2585880"/>
            <a:ext cx="11397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450720" y="355680"/>
            <a:ext cx="8640720" cy="2104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76:12 = …        768:16 =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791:17 = …      6688:19 =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998:14 = …    14505 : 15 =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2" descr=""/>
          <p:cNvPicPr/>
          <p:nvPr/>
        </p:nvPicPr>
        <p:blipFill>
          <a:blip r:embed="rId2"/>
          <a:stretch/>
        </p:blipFill>
        <p:spPr>
          <a:xfrm>
            <a:off x="2700360" y="2560680"/>
            <a:ext cx="2949480" cy="4140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7380360" y="6237360"/>
            <a:ext cx="151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s://www.pinclipart.com/picdir/big/54-541599_wonderland-alice-clipart-cliparts-by-digitalclipartpapers-.png"/>
          <p:cNvPicPr/>
          <p:nvPr/>
        </p:nvPicPr>
        <p:blipFill>
          <a:blip r:embed="rId2"/>
          <a:stretch/>
        </p:blipFill>
        <p:spPr>
          <a:xfrm>
            <a:off x="324000" y="1268280"/>
            <a:ext cx="3960720" cy="5327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4716360" y="836640"/>
            <a:ext cx="38163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5850000" y="1798560"/>
            <a:ext cx="154944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395280" y="260280"/>
            <a:ext cx="8640720" cy="2531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семью из трёх человек в сутки требуется 51 кг чистого воздуха. Сколько кг воздуха потребуется на наш класс (в классе 30 учеников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2" descr=""/>
          <p:cNvPicPr/>
          <p:nvPr/>
        </p:nvPicPr>
        <p:blipFill>
          <a:blip r:embed="rId2"/>
          <a:stretch/>
        </p:blipFill>
        <p:spPr>
          <a:xfrm>
            <a:off x="3276720" y="3154320"/>
            <a:ext cx="1865160" cy="30909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6156360" y="3573360"/>
            <a:ext cx="216072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5318280" y="4376880"/>
            <a:ext cx="374472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1 : 3 х 30 = 5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7380360" y="6237360"/>
            <a:ext cx="151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s://www.pinclipart.com/picdir/big/54-541599_wonderland-alice-clipart-cliparts-by-digitalclipartpapers-.png"/>
          <p:cNvPicPr/>
          <p:nvPr/>
        </p:nvPicPr>
        <p:blipFill>
          <a:blip r:embed="rId2"/>
          <a:stretch/>
        </p:blipFill>
        <p:spPr>
          <a:xfrm>
            <a:off x="324000" y="1268280"/>
            <a:ext cx="3960720" cy="53276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"/>
          <p:cNvSpPr/>
          <p:nvPr/>
        </p:nvSpPr>
        <p:spPr>
          <a:xfrm>
            <a:off x="4716360" y="836640"/>
            <a:ext cx="38163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Ь ИГ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5850000" y="1798560"/>
            <a:ext cx="154944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berserkon.com/images/alice-in-wonderland-clipart.gif"/>
          <p:cNvPicPr/>
          <p:nvPr/>
        </p:nvPicPr>
        <p:blipFill>
          <a:blip r:embed="rId2"/>
          <a:stretch/>
        </p:blipFill>
        <p:spPr>
          <a:xfrm>
            <a:off x="1908000" y="2670120"/>
            <a:ext cx="2565720" cy="359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s://www.clipartmax.com/png/full/228-2288575_white-rabbit-the-mad-hatter-alices-adventures-in-wonderland-alice-in-wonderland.png"/>
          <p:cNvPicPr/>
          <p:nvPr/>
        </p:nvPicPr>
        <p:blipFill>
          <a:blip r:embed="rId3"/>
          <a:stretch/>
        </p:blipFill>
        <p:spPr>
          <a:xfrm>
            <a:off x="4859280" y="3284640"/>
            <a:ext cx="1863720" cy="3093840"/>
          </a:xfrm>
          <a:prstGeom prst="rect">
            <a:avLst/>
          </a:prstGeom>
          <a:ln w="0">
            <a:noFill/>
          </a:ln>
        </p:spPr>
      </p:pic>
      <p:sp>
        <p:nvSpPr>
          <p:cNvPr id="46" name="Овальная выноска 2"/>
          <p:cNvSpPr/>
          <p:nvPr/>
        </p:nvSpPr>
        <p:spPr>
          <a:xfrm flipH="1">
            <a:off x="610560" y="333360"/>
            <a:ext cx="2987640" cy="2087640"/>
          </a:xfrm>
          <a:prstGeom prst="wedgeEllipseCallout">
            <a:avLst>
              <a:gd name="adj1" fmla="val -33625"/>
              <a:gd name="adj2" fmla="val 5857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равствуй, Кролик! Что случ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ьная выноска 3"/>
          <p:cNvSpPr/>
          <p:nvPr/>
        </p:nvSpPr>
        <p:spPr>
          <a:xfrm>
            <a:off x="5580000" y="1482840"/>
            <a:ext cx="3095640" cy="2376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пить чай! А стол не накр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7451640" y="62690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365960" y="333360"/>
            <a:ext cx="1548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3708360" y="333360"/>
            <a:ext cx="4572000" cy="4359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ропинке вдоль ку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ло 11 хво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читать я так же см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шагало 30 н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вместе шли куда-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юки и жеребя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еперь вопрос та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было индю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осим также у реб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было жеребя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2950920" cy="41385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3564000" y="5084640"/>
            <a:ext cx="201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жеребёнка и 7 индю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6084720" y="5084640"/>
            <a:ext cx="20876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жеребят и 6 индю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7380360" y="6237360"/>
            <a:ext cx="151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extBox 1" descr=""/>
          <p:cNvPicPr/>
          <p:nvPr/>
        </p:nvPicPr>
        <p:blipFill>
          <a:blip r:embed="rId2"/>
          <a:stretch/>
        </p:blipFill>
        <p:spPr>
          <a:xfrm>
            <a:off x="1908000" y="1847880"/>
            <a:ext cx="5540400" cy="3041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4599000" y="3500280"/>
            <a:ext cx="2584440" cy="3127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s://pngicon.ru/file/uploads/stul-1.png"/>
          <p:cNvPicPr/>
          <p:nvPr/>
        </p:nvPicPr>
        <p:blipFill>
          <a:blip r:embed="rId3"/>
          <a:stretch/>
        </p:blipFill>
        <p:spPr>
          <a:xfrm>
            <a:off x="3868560" y="3500280"/>
            <a:ext cx="2586240" cy="312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s://pngicon.ru/file/uploads/stul-1.png"/>
          <p:cNvPicPr/>
          <p:nvPr/>
        </p:nvPicPr>
        <p:blipFill>
          <a:blip r:embed="rId4"/>
          <a:stretch/>
        </p:blipFill>
        <p:spPr>
          <a:xfrm>
            <a:off x="2484360" y="3860640"/>
            <a:ext cx="2586240" cy="312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s://pngicon.ru/file/uploads/stul-1.png"/>
          <p:cNvPicPr/>
          <p:nvPr/>
        </p:nvPicPr>
        <p:blipFill>
          <a:blip r:embed="rId5"/>
          <a:stretch/>
        </p:blipFill>
        <p:spPr>
          <a:xfrm>
            <a:off x="5867280" y="3860640"/>
            <a:ext cx="2587680" cy="312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i.postimg.cc/m2vqnKK9/Tubes-tables-en-png-G-ZDEFORUM-ELELE-CANSU-2.png"/>
          <p:cNvPicPr/>
          <p:nvPr/>
        </p:nvPicPr>
        <p:blipFill>
          <a:blip r:embed="rId6"/>
          <a:stretch/>
        </p:blipFill>
        <p:spPr>
          <a:xfrm>
            <a:off x="3564000" y="4005360"/>
            <a:ext cx="3960720" cy="327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7"/>
          <a:stretch/>
        </p:blipFill>
        <p:spPr>
          <a:xfrm>
            <a:off x="355680" y="2708280"/>
            <a:ext cx="2950920" cy="4137120"/>
          </a:xfrm>
          <a:prstGeom prst="rect">
            <a:avLst/>
          </a:prstGeom>
          <a:ln w="0">
            <a:noFill/>
          </a:ln>
        </p:spPr>
      </p:pic>
      <p:sp>
        <p:nvSpPr>
          <p:cNvPr id="56" name="Выноска-облако 1"/>
          <p:cNvSpPr/>
          <p:nvPr/>
        </p:nvSpPr>
        <p:spPr>
          <a:xfrm>
            <a:off x="2124000" y="353880"/>
            <a:ext cx="4464000" cy="2376720"/>
          </a:xfrm>
          <a:prstGeom prst="cloudCallout">
            <a:avLst>
              <a:gd name="adj1" fmla="val -44981"/>
              <a:gd name="adj2" fmla="val 5618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беспорядок… Нужно прибр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C:\Users\Надя\Desktop\Эпос.Школа\4 класс\Moodle\Игра\d67931e9a1630c39b2ea06a7f030f9aa.png"/>
          <p:cNvPicPr/>
          <p:nvPr/>
        </p:nvPicPr>
        <p:blipFill>
          <a:blip r:embed="rId8"/>
          <a:stretch/>
        </p:blipFill>
        <p:spPr>
          <a:xfrm>
            <a:off x="2136600" y="5645160"/>
            <a:ext cx="1395720" cy="1157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9"/>
          <a:stretch/>
        </p:blipFill>
        <p:spPr>
          <a:xfrm>
            <a:off x="8244000" y="4727520"/>
            <a:ext cx="718920" cy="480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10"/>
          <a:stretch/>
        </p:blipFill>
        <p:spPr>
          <a:xfrm>
            <a:off x="4711680" y="6356520"/>
            <a:ext cx="719280" cy="480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C:\Users\Надя\Desktop\Эпос.Школа\4 класс\Moodle\Игра\cooking-pot-clip-art-11.png"/>
          <p:cNvPicPr/>
          <p:nvPr/>
        </p:nvPicPr>
        <p:blipFill>
          <a:blip r:embed="rId11"/>
          <a:stretch/>
        </p:blipFill>
        <p:spPr>
          <a:xfrm>
            <a:off x="6723000" y="5851440"/>
            <a:ext cx="1306440" cy="100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C:\Users\Надя\Desktop\Эпос.Школа\4 класс\Moodle\Игра\holy-bible-clip-art-7.png"/>
          <p:cNvPicPr/>
          <p:nvPr/>
        </p:nvPicPr>
        <p:blipFill>
          <a:blip r:embed="rId12"/>
          <a:stretch/>
        </p:blipFill>
        <p:spPr>
          <a:xfrm>
            <a:off x="-1440" y="5713560"/>
            <a:ext cx="117288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Выноска-облако 20"/>
          <p:cNvSpPr/>
          <p:nvPr/>
        </p:nvSpPr>
        <p:spPr>
          <a:xfrm>
            <a:off x="2136600" y="353880"/>
            <a:ext cx="4464360" cy="2376720"/>
          </a:xfrm>
          <a:prstGeom prst="cloudCallout">
            <a:avLst>
              <a:gd name="adj1" fmla="val -44981"/>
              <a:gd name="adj2" fmla="val 5618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ачала нужно сервировать стол. Нужно найти чай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Выноска-облако 21"/>
          <p:cNvSpPr/>
          <p:nvPr/>
        </p:nvSpPr>
        <p:spPr>
          <a:xfrm>
            <a:off x="2136600" y="353880"/>
            <a:ext cx="4464360" cy="2376720"/>
          </a:xfrm>
          <a:prstGeom prst="cloudCallout">
            <a:avLst>
              <a:gd name="adj1" fmla="val -44981"/>
              <a:gd name="adj2" fmla="val 5618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еперь четыре чаш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C:\Users\Надя\Desktop\Эпос.Школа\4 класс\Moodle\Игра\teacup-1826624_1280.png"/>
          <p:cNvPicPr/>
          <p:nvPr/>
        </p:nvPicPr>
        <p:blipFill>
          <a:blip r:embed="rId13"/>
          <a:stretch/>
        </p:blipFill>
        <p:spPr>
          <a:xfrm>
            <a:off x="8094600" y="6318360"/>
            <a:ext cx="720720" cy="47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14"/>
          <a:stretch/>
        </p:blipFill>
        <p:spPr>
          <a:xfrm>
            <a:off x="971640" y="6354720"/>
            <a:ext cx="718920" cy="480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565400" y="282600"/>
            <a:ext cx="1377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носка-облако 19"/>
          <p:cNvSpPr/>
          <p:nvPr/>
        </p:nvSpPr>
        <p:spPr>
          <a:xfrm>
            <a:off x="2136600" y="353880"/>
            <a:ext cx="4464360" cy="2376720"/>
          </a:xfrm>
          <a:prstGeom prst="cloudCallout">
            <a:avLst>
              <a:gd name="adj1" fmla="val -44981"/>
              <a:gd name="adj2" fmla="val 5618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маю, книга и кастрюля для чаепития ни к чему. Нужно убрать их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5227 L -0.00677 -0.17715 C -0.00677 -0.23335 0.07586 -0.30204 0.1434 -0.30204 L 0.29357 -0.30204 E">
                                      <p:cBhvr>
                                        <p:cTn id="3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0.00139 L -0.00782 -0.15124 C -0.00782 -0.21993 0.08819 -0.30388 0.16632 -0.30388 L 0.34062 -0.30388 E">
                                      <p:cBhvr>
                                        <p:cTn id="4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18131E-006 L -0.0309 -0.31453 E">
                                      <p:cBhvr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7734E-006 L -0.23611 -0.06684 E">
                                      <p:cBhvr>
                                        <p:cTn id="5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59759E-006 L -0.2592 -0.26712 E">
                                      <p:cBhvr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www.pinclipart.com/picdir/big/54-541599_wonderland-alice-clipart-cliparts-by-digitalclipartpapers-.png"/>
          <p:cNvPicPr/>
          <p:nvPr/>
        </p:nvPicPr>
        <p:blipFill>
          <a:blip r:embed="rId2"/>
          <a:stretch/>
        </p:blipFill>
        <p:spPr>
          <a:xfrm>
            <a:off x="324000" y="1268280"/>
            <a:ext cx="3960720" cy="5327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4716360" y="836640"/>
            <a:ext cx="38163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РОДОЛЖИТЬ ИГ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5882760" y="1798560"/>
            <a:ext cx="14839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ВЫ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2950920" cy="4137120"/>
          </a:xfrm>
          <a:prstGeom prst="rect">
            <a:avLst/>
          </a:prstGeom>
          <a:ln w="0">
            <a:noFill/>
          </a:ln>
        </p:spPr>
      </p:pic>
      <p:sp>
        <p:nvSpPr>
          <p:cNvPr id="72" name="Выноска-облако 1"/>
          <p:cNvSpPr/>
          <p:nvPr/>
        </p:nvSpPr>
        <p:spPr>
          <a:xfrm flipH="1">
            <a:off x="610560" y="260280"/>
            <a:ext cx="4608360" cy="2376720"/>
          </a:xfrm>
          <a:prstGeom prst="cloudCallout">
            <a:avLst>
              <a:gd name="adj1" fmla="val -48967"/>
              <a:gd name="adj2" fmla="val 4239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маю, ваза с цветами украсит сто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468360" y="3860640"/>
            <a:ext cx="3166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Собрать 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68360" y="4581360"/>
            <a:ext cx="31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Можно обойтись и без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755640" y="549360"/>
            <a:ext cx="7416720" cy="1557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78 : 26 = 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Надя\Desktop\Эпос.Школа\4 класс\Moodle\Игра\0 (406).png"/>
          <p:cNvPicPr/>
          <p:nvPr/>
        </p:nvPicPr>
        <p:blipFill>
          <a:blip r:embed="rId2"/>
          <a:stretch/>
        </p:blipFill>
        <p:spPr>
          <a:xfrm>
            <a:off x="1187280" y="2997360"/>
            <a:ext cx="3032280" cy="3398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Надя\Desktop\Эпос.Школа\4 класс\Moodle\Игра\89-899229_blue-flowers-clipart-png.png"/>
          <p:cNvPicPr/>
          <p:nvPr/>
        </p:nvPicPr>
        <p:blipFill>
          <a:blip r:embed="rId3"/>
          <a:stretch/>
        </p:blipFill>
        <p:spPr>
          <a:xfrm>
            <a:off x="5227560" y="3429000"/>
            <a:ext cx="2944800" cy="2817720"/>
          </a:xfrm>
          <a:prstGeom prst="rect">
            <a:avLst/>
          </a:prstGeom>
          <a:ln w="0">
            <a:noFill/>
          </a:ln>
        </p:spPr>
      </p:pic>
      <p:sp>
        <p:nvSpPr>
          <p:cNvPr id="78" name="Овал 2"/>
          <p:cNvSpPr/>
          <p:nvPr/>
        </p:nvSpPr>
        <p:spPr>
          <a:xfrm>
            <a:off x="1187280" y="5392800"/>
            <a:ext cx="11527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6"/>
          <p:cNvSpPr/>
          <p:nvPr/>
        </p:nvSpPr>
        <p:spPr>
          <a:xfrm>
            <a:off x="5076720" y="5392800"/>
            <a:ext cx="11509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7416720" y="626760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755640" y="549360"/>
            <a:ext cx="7416720" cy="1557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99 : 11 = 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C:\Users\Надя\Desktop\Эпос.Школа\4 класс\Moodle\Игра\0 (406).png"/>
          <p:cNvPicPr/>
          <p:nvPr/>
        </p:nvPicPr>
        <p:blipFill>
          <a:blip r:embed="rId2"/>
          <a:stretch/>
        </p:blipFill>
        <p:spPr>
          <a:xfrm>
            <a:off x="1187280" y="2997360"/>
            <a:ext cx="3032280" cy="3398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Надя\Desktop\Эпос.Школа\4 класс\Moodle\Игра\89-899229_blue-flowers-clipart-png.png"/>
          <p:cNvPicPr/>
          <p:nvPr/>
        </p:nvPicPr>
        <p:blipFill>
          <a:blip r:embed="rId3"/>
          <a:stretch/>
        </p:blipFill>
        <p:spPr>
          <a:xfrm>
            <a:off x="5227560" y="3429000"/>
            <a:ext cx="29448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Овал 2"/>
          <p:cNvSpPr/>
          <p:nvPr/>
        </p:nvSpPr>
        <p:spPr>
          <a:xfrm>
            <a:off x="1187280" y="5392800"/>
            <a:ext cx="11527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6"/>
          <p:cNvSpPr/>
          <p:nvPr/>
        </p:nvSpPr>
        <p:spPr>
          <a:xfrm>
            <a:off x="5076720" y="5392800"/>
            <a:ext cx="11509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7416720" y="626760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55640" y="549360"/>
            <a:ext cx="7416720" cy="1557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78 : 13 = 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Users\Надя\Desktop\Эпос.Школа\4 класс\Moodle\Игра\0 (406).png"/>
          <p:cNvPicPr/>
          <p:nvPr/>
        </p:nvPicPr>
        <p:blipFill>
          <a:blip r:embed="rId2"/>
          <a:stretch/>
        </p:blipFill>
        <p:spPr>
          <a:xfrm>
            <a:off x="1187280" y="2997360"/>
            <a:ext cx="3032280" cy="339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Надя\Desktop\Эпос.Школа\4 класс\Moodle\Игра\89-899229_blue-flowers-clipart-png.png"/>
          <p:cNvPicPr/>
          <p:nvPr/>
        </p:nvPicPr>
        <p:blipFill>
          <a:blip r:embed="rId3"/>
          <a:stretch/>
        </p:blipFill>
        <p:spPr>
          <a:xfrm>
            <a:off x="5227560" y="3429000"/>
            <a:ext cx="2944800" cy="2817720"/>
          </a:xfrm>
          <a:prstGeom prst="rect">
            <a:avLst/>
          </a:prstGeom>
          <a:ln w="0">
            <a:noFill/>
          </a:ln>
        </p:spPr>
      </p:pic>
      <p:sp>
        <p:nvSpPr>
          <p:cNvPr id="90" name="Овал 2"/>
          <p:cNvSpPr/>
          <p:nvPr/>
        </p:nvSpPr>
        <p:spPr>
          <a:xfrm>
            <a:off x="1187280" y="5392800"/>
            <a:ext cx="11527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6"/>
          <p:cNvSpPr/>
          <p:nvPr/>
        </p:nvSpPr>
        <p:spPr>
          <a:xfrm>
            <a:off x="5076720" y="5392800"/>
            <a:ext cx="11509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7416720" y="626760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755640" y="549360"/>
            <a:ext cx="7416720" cy="15570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64 : 16 = 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Users\Надя\Desktop\Эпос.Школа\4 класс\Moodle\Игра\0 (406).png"/>
          <p:cNvPicPr/>
          <p:nvPr/>
        </p:nvPicPr>
        <p:blipFill>
          <a:blip r:embed="rId2"/>
          <a:stretch/>
        </p:blipFill>
        <p:spPr>
          <a:xfrm>
            <a:off x="1187280" y="2997360"/>
            <a:ext cx="3032280" cy="3398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Надя\Desktop\Эпос.Школа\4 класс\Moodle\Игра\89-899229_blue-flowers-clipart-png.png"/>
          <p:cNvPicPr/>
          <p:nvPr/>
        </p:nvPicPr>
        <p:blipFill>
          <a:blip r:embed="rId3"/>
          <a:stretch/>
        </p:blipFill>
        <p:spPr>
          <a:xfrm>
            <a:off x="5227560" y="3429000"/>
            <a:ext cx="2944800" cy="2817720"/>
          </a:xfrm>
          <a:prstGeom prst="rect">
            <a:avLst/>
          </a:prstGeom>
          <a:ln w="0">
            <a:noFill/>
          </a:ln>
        </p:spPr>
      </p:pic>
      <p:sp>
        <p:nvSpPr>
          <p:cNvPr id="96" name="Овал 2"/>
          <p:cNvSpPr/>
          <p:nvPr/>
        </p:nvSpPr>
        <p:spPr>
          <a:xfrm>
            <a:off x="1187280" y="5392800"/>
            <a:ext cx="11527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6"/>
          <p:cNvSpPr/>
          <p:nvPr/>
        </p:nvSpPr>
        <p:spPr>
          <a:xfrm>
            <a:off x="5076720" y="5392800"/>
            <a:ext cx="1150920" cy="1008000"/>
          </a:xfrm>
          <a:prstGeom prst="ellipse">
            <a:avLst/>
          </a:prstGeom>
          <a:solidFill>
            <a:srgbClr val="f2dcd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7416720" y="626760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Дале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9:23:40Z</dcterms:created>
  <dc:creator>Admin</dc:creator>
  <dc:description/>
  <dc:language>en-US</dc:language>
  <cp:lastModifiedBy>soccn</cp:lastModifiedBy>
  <dcterms:modified xsi:type="dcterms:W3CDTF">2025-02-02T08:19:26Z</dcterms:modified>
  <cp:revision>54</cp:revision>
  <dc:subject/>
  <dc:title>Ильменский государственный заповедник</dc:title>
</cp:coreProperties>
</file>